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6.png" ContentType="image/png"/>
  <Override PartName="/ppt/media/image10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EFD-ED9A-43EE-8920-0E5E4840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788-B0F7-4C5E-822D-D9290034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1E80-CB7D-4312-933D-31056E004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922-E96D-4AB5-AF52-386D7EE6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F9C8-2839-4959-B9A8-03831542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72CE-5157-4CE2-BF5E-244A8ECA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E39-D614-4F9B-9B58-DCCF7098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DA7A-B282-4D07-8C99-EE0C1D28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EB5-3FE6-44B8-A168-6DB50DFA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133-DF6C-4EF0-8FBE-D446702F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F4E-C89C-4934-945D-1B69C4AD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A833-55F3-4F0D-A6AE-705F2750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5314-3388-4725-8850-8CA5C4A26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15.wmf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1752480"/>
            <a:ext cx="6553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сиомы стереометри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3581280"/>
            <a:ext cx="47242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шение зада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1989000" cy="1981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9400" y="5938920"/>
            <a:ext cx="45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хорукова Е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ОУ «Борисовская СОШ №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Параллельные прямые в простран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259092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066680" y="28195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3047760"/>
            <a:ext cx="18288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4572000"/>
            <a:ext cx="3124080" cy="1600200"/>
          </a:xfrm>
          <a:prstGeom prst="parallelogram">
            <a:avLst>
              <a:gd name="adj" fmla="val 488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4191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6172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705720" y="4876560"/>
            <a:ext cx="12952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628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52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31200" y="5562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9744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40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81280" y="27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 в пространстве 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параллельными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, если они лежат в одной плоскости и не пересекаютс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4920" y="5068800"/>
            <a:ext cx="51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Прямые, которые не пересе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и не лежат в одной плоск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называются </a:t>
            </a:r>
            <a:r>
              <a:rPr b="1" i="1" lang="en-US" sz="2400" spc="-1" strike="noStrike">
                <a:solidFill>
                  <a:srgbClr val="008080"/>
                </a:solidFill>
                <a:latin typeface="Arial"/>
              </a:rPr>
              <a:t>скрещивающими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араллелепипеде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A…D</a:t>
            </a:r>
            <a:r>
              <a:rPr b="0" lang="ru-RU" sz="1200" spc="-1" strike="noStrike">
                <a:solidFill>
                  <a:srgbClr val="00808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укажите параллельные и скрещивающиеся прям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2666880"/>
            <a:ext cx="2438280" cy="26672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05520" y="4724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812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81280" y="44193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6252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8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0040" y="4952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97144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45000" y="5257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8320" y="30481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8520" y="4419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8160" y="236232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1880" y="44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5920" y="2362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5012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02400" y="312408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В пирамиде 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BCD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укажите все пары скрещивающихся прям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437920" y="2666880"/>
            <a:ext cx="129564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2666880"/>
            <a:ext cx="10666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44956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00400" y="449532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200400" y="2666880"/>
            <a:ext cx="53352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35520" y="4343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6080" y="4267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92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9400" y="2286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219320" y="457200"/>
            <a:ext cx="6933600" cy="6171840"/>
            <a:chOff x="1219320" y="457200"/>
            <a:chExt cx="6933600" cy="6171840"/>
          </a:xfrm>
        </p:grpSpPr>
        <p:sp>
          <p:nvSpPr>
            <p:cNvPr id="259" name=""/>
            <p:cNvSpPr/>
            <p:nvPr/>
          </p:nvSpPr>
          <p:spPr>
            <a:xfrm>
              <a:off x="1219320" y="1737000"/>
              <a:ext cx="6933600" cy="3101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ff99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3113280" y="4684680"/>
              <a:ext cx="4692960" cy="19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3"/>
            <a:stretch/>
          </p:blipFill>
          <p:spPr>
            <a:xfrm>
              <a:off x="2711160" y="457200"/>
              <a:ext cx="3754080" cy="143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2" name=""/>
          <p:cNvSpPr txBox="1"/>
          <p:nvPr/>
        </p:nvSpPr>
        <p:spPr>
          <a:xfrm>
            <a:off x="2286000" y="2743200"/>
            <a:ext cx="487692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8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8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04920" y="762120"/>
            <a:ext cx="8381880" cy="5943600"/>
            <a:chOff x="304920" y="762120"/>
            <a:chExt cx="8381880" cy="5943600"/>
          </a:xfrm>
        </p:grpSpPr>
        <p:sp>
          <p:nvSpPr>
            <p:cNvPr id="46" name=""/>
            <p:cNvSpPr/>
            <p:nvPr/>
          </p:nvSpPr>
          <p:spPr>
            <a:xfrm>
              <a:off x="3200400" y="52196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52196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00400" y="37339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37339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0400" y="2247840"/>
              <a:ext cx="548640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247840"/>
              <a:ext cx="2895480" cy="14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762120"/>
              <a:ext cx="54864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762120"/>
              <a:ext cx="289548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920" y="7621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2478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373392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5219640"/>
              <a:ext cx="838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920" y="6705720"/>
              <a:ext cx="838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492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762120"/>
              <a:ext cx="0" cy="594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86800" y="762120"/>
              <a:ext cx="0" cy="59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429000" y="9907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две точки пространства проходит единственная пря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362320"/>
            <a:ext cx="525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любые три точки пространства, не принадлежащие одной прямой,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962520"/>
            <a:ext cx="525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две плоскости имеют общую точку, то 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5334120"/>
            <a:ext cx="5486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Существуют по крайней мере четыре точки, не принадлежащие одн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133720" cy="1062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789280" cy="1013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09480" y="5410080"/>
            <a:ext cx="2371680" cy="105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09480" y="3733920"/>
            <a:ext cx="2286000" cy="1417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37339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304920" y="762120"/>
            <a:ext cx="8458200" cy="5478480"/>
            <a:chOff x="304920" y="762120"/>
            <a:chExt cx="8458200" cy="5478480"/>
          </a:xfrm>
        </p:grpSpPr>
        <p:sp>
          <p:nvSpPr>
            <p:cNvPr id="72" name=""/>
            <p:cNvSpPr/>
            <p:nvPr/>
          </p:nvSpPr>
          <p:spPr>
            <a:xfrm>
              <a:off x="3200400" y="4456080"/>
              <a:ext cx="556272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920" y="4456080"/>
              <a:ext cx="2895480" cy="17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0400" y="2666880"/>
              <a:ext cx="556272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2666880"/>
              <a:ext cx="2895480" cy="178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00400" y="762120"/>
              <a:ext cx="55627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762120"/>
              <a:ext cx="289548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20" y="76212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4920" y="26668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4920" y="4456080"/>
              <a:ext cx="845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4920" y="6240600"/>
              <a:ext cx="8458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00400" y="762120"/>
              <a:ext cx="0" cy="54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762120"/>
              <a:ext cx="0" cy="54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352680" y="914400"/>
            <a:ext cx="502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Если прямая имеет с плоскостью две общие точки, то она лежит в это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28195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прямую и не принадлежащую ей точку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648320"/>
            <a:ext cx="548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Times New Roman"/>
              </a:rPr>
              <a:t>Через две пересекающиеся прямые проходит единственная плос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2371680" cy="70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09480" y="3124080"/>
            <a:ext cx="2371680" cy="70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09480" y="4952880"/>
            <a:ext cx="237168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791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Times New Roman Cyr"/>
              </a:rPr>
              <a:t>Ответ: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 а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B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C</a:t>
            </a:r>
            <a:r>
              <a:rPr b="0" i="1" lang="ru-RU" sz="2400" spc="-1" strike="noStrike">
                <a:solidFill>
                  <a:srgbClr val="ff3300"/>
                </a:solidFill>
                <a:latin typeface="Times New Roman Cyr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должны принадлежать одной прямой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;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б) 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</a:rPr>
              <a:t>точки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L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ff3300"/>
                </a:solidFill>
                <a:latin typeface="Times New Roman Cyr"/>
                <a:ea typeface="Times New Roman"/>
              </a:rPr>
              <a:t> должны принадлежать одной прям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57200" y="914400"/>
            <a:ext cx="8077320" cy="1922760"/>
            <a:chOff x="457200" y="914400"/>
            <a:chExt cx="8077320" cy="1922760"/>
          </a:xfrm>
        </p:grpSpPr>
        <p:sp>
          <p:nvSpPr>
            <p:cNvPr id="94" name=""/>
            <p:cNvSpPr/>
            <p:nvPr/>
          </p:nvSpPr>
          <p:spPr>
            <a:xfrm>
              <a:off x="457200" y="914400"/>
              <a:ext cx="7924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Найдите ошибку на рисунк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</a:rPr>
                <a:t>ах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если: а)  и  - две пересекающиеся плоскости, и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A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B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C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как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так 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; б)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- три попарно пересекающиеся плоскости, причем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K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L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ринадлежат плоскостям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а точки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N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O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P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–плоскостям  </a:t>
              </a: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и</a:t>
              </a:r>
              <a:r>
                <a:rPr b="0" lang="en-US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5" name=""/>
            <p:cNvGraphicFramePr/>
            <p:nvPr/>
          </p:nvGraphicFramePr>
          <p:xfrm>
            <a:off x="6477120" y="1066680"/>
            <a:ext cx="228600" cy="216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77120" y="106668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"/>
            <p:cNvGraphicFramePr/>
            <p:nvPr/>
          </p:nvGraphicFramePr>
          <p:xfrm>
            <a:off x="7182000" y="1009800"/>
            <a:ext cx="190440" cy="33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182000" y="1009800"/>
                      <a:ext cx="19044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"/>
            <p:cNvGraphicFramePr/>
            <p:nvPr/>
          </p:nvGraphicFramePr>
          <p:xfrm>
            <a:off x="990720" y="1828800"/>
            <a:ext cx="228600" cy="21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907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"/>
            <p:cNvGraphicFramePr/>
            <p:nvPr/>
          </p:nvGraphicFramePr>
          <p:xfrm>
            <a:off x="2133720" y="1752480"/>
            <a:ext cx="190440" cy="330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2819520" y="1828800"/>
            <a:ext cx="228600" cy="216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819520" y="18288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3276720" y="1752480"/>
            <a:ext cx="190440" cy="3304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276720" y="1752480"/>
                      <a:ext cx="19044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740040" y="1784520"/>
            <a:ext cx="177840" cy="26640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740040" y="1784520"/>
                      <a:ext cx="177840" cy="26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9" name=""/>
            <p:cNvGraphicFramePr/>
            <p:nvPr/>
          </p:nvGraphicFramePr>
          <p:xfrm>
            <a:off x="8305920" y="2133720"/>
            <a:ext cx="228600" cy="215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305920" y="21337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1" name=""/>
            <p:cNvGraphicFramePr/>
            <p:nvPr/>
          </p:nvGraphicFramePr>
          <p:xfrm>
            <a:off x="838080" y="2438280"/>
            <a:ext cx="190800" cy="33048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838080" y="2438280"/>
                      <a:ext cx="190800" cy="33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" name=""/>
            <p:cNvGraphicFramePr/>
            <p:nvPr/>
          </p:nvGraphicFramePr>
          <p:xfrm>
            <a:off x="5105520" y="2514600"/>
            <a:ext cx="228600" cy="21600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5105520" y="2514600"/>
                      <a:ext cx="228600" cy="21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5" name=""/>
            <p:cNvGraphicFramePr/>
            <p:nvPr/>
          </p:nvGraphicFramePr>
          <p:xfrm>
            <a:off x="5715000" y="2514600"/>
            <a:ext cx="177840" cy="2667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715000" y="2514600"/>
                      <a:ext cx="1778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17" name="" descr=""/>
          <p:cNvPicPr/>
          <p:nvPr/>
        </p:nvPicPr>
        <p:blipFill>
          <a:blip r:embed="rId24"/>
          <a:stretch/>
        </p:blipFill>
        <p:spPr>
          <a:xfrm>
            <a:off x="533520" y="2743200"/>
            <a:ext cx="8003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33520" y="5410080"/>
            <a:ext cx="2819160" cy="459720"/>
            <a:chOff x="533520" y="5410080"/>
            <a:chExt cx="2819160" cy="459720"/>
          </a:xfrm>
        </p:grpSpPr>
        <p:sp>
          <p:nvSpPr>
            <p:cNvPr id="120" name=""/>
            <p:cNvSpPr/>
            <p:nvPr/>
          </p:nvSpPr>
          <p:spPr>
            <a:xfrm>
              <a:off x="533520" y="54100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80"/>
                  </a:solidFill>
                  <a:latin typeface="Times New Roman Cyr"/>
                </a:rPr>
                <a:t>Ответ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 Cyr"/>
                </a:rPr>
                <a:t>: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1523880" y="5486040"/>
            <a:ext cx="774360" cy="343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5486040"/>
                      <a:ext cx="7743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380880" y="1371600"/>
            <a:ext cx="7925040" cy="3586320"/>
            <a:chOff x="380880" y="1371600"/>
            <a:chExt cx="7925040" cy="3586320"/>
          </a:xfrm>
        </p:grpSpPr>
        <p:sp>
          <p:nvSpPr>
            <p:cNvPr id="124" name=""/>
            <p:cNvSpPr/>
            <p:nvPr/>
          </p:nvSpPr>
          <p:spPr>
            <a:xfrm>
              <a:off x="380880" y="1371600"/>
              <a:ext cx="792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Определите по рисунку плоскостям каких фигур принадлежит точка </a:t>
              </a:r>
              <a:r>
                <a:rPr b="0" i="1" lang="en-US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M</a:t>
              </a:r>
              <a:r>
                <a:rPr b="0" lang="ru-RU" sz="2400" spc="-1" strike="noStrike">
                  <a:solidFill>
                    <a:srgbClr val="008080"/>
                  </a:solidFill>
                  <a:latin typeface="Times New Roman Cyr"/>
                  <a:ea typeface="Times New Roman"/>
                </a:rPr>
                <a:t> плоскости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</a:rPr>
                <a:t>   </a:t>
              </a:r>
              <a:r>
                <a:rPr b="0" lang="ru-RU" sz="2400" spc="-1" strike="noStrike">
                  <a:solidFill>
                    <a:srgbClr val="bbe0e3"/>
                  </a:solidFill>
                  <a:latin typeface="Times New Roman Cyr"/>
                  <a:ea typeface="Times New Roman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4800600" y="1905120"/>
            <a:ext cx="228600" cy="21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00600" y="1905120"/>
                      <a:ext cx="228600" cy="21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7" name="" descr=""/>
            <p:cNvPicPr/>
            <p:nvPr/>
          </p:nvPicPr>
          <p:blipFill>
            <a:blip r:embed="rId6"/>
            <a:stretch/>
          </p:blipFill>
          <p:spPr>
            <a:xfrm>
              <a:off x="1676520" y="2743200"/>
              <a:ext cx="5438520" cy="2214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9917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Найдите ошибку на чертеже. Дайте объяс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43828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1065600" y="3657240"/>
            <a:ext cx="2590920" cy="1219320"/>
          </a:xfrm>
          <a:prstGeom prst="parallelogram">
            <a:avLst>
              <a:gd name="adj" fmla="val 53122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8954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057400" y="2895480"/>
            <a:ext cx="5335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36576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8320" y="4495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428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40080" y="2514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450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7280" y="40384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3581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9400" y="62118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очка М не принадлежит 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</a:rPr>
              <a:t>Как расположены относительно друг друга плоскост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24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24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 Ответ объясните. При необходимости дополните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96252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4114800"/>
            <a:ext cx="2286000" cy="1143000"/>
          </a:xfrm>
          <a:prstGeom prst="parallelogram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289548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39625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9625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9625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4280" y="4495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252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060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3080" y="350532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0" y="4724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97440" y="3505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2971800"/>
            <a:ext cx="1371600" cy="1600200"/>
          </a:xfrm>
          <a:prstGeom prst="diamond">
            <a:avLst/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44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733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2720" y="4572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6858000" y="373392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7680" y="4572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59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7680" y="2590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20640" y="35416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14440" y="483696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64520" y="3581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715000"/>
            <a:ext cx="949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.к. плоскости имеют одну общую точку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они пересекаются по 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Сколько плоскостей можно провести через прямую 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71600" y="335232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1600" y="3618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095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бесконечно 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 6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</a:rPr>
              <a:t>Как расположены плоскост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α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и </a:t>
            </a:r>
            <a:r>
              <a:rPr b="0" lang="el-GR" sz="3200" spc="-1" strike="noStrike">
                <a:solidFill>
                  <a:srgbClr val="008080"/>
                </a:solidFill>
                <a:latin typeface="Arial"/>
                <a:ea typeface="Arial"/>
              </a:rPr>
              <a:t>β</a:t>
            </a:r>
            <a:r>
              <a:rPr b="0" lang="ru-RU" sz="3200" spc="-1" strike="noStrike">
                <a:solidFill>
                  <a:srgbClr val="008080"/>
                </a:solidFill>
                <a:latin typeface="Arial"/>
                <a:ea typeface="Arial"/>
              </a:rPr>
              <a:t> на рисун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167616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337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7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52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096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4191120"/>
            <a:ext cx="3429000" cy="1143000"/>
          </a:xfrm>
          <a:prstGeom prst="parallelogram">
            <a:avLst>
              <a:gd name="adj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5714640" y="3123720"/>
            <a:ext cx="1523880" cy="1676520"/>
          </a:xfrm>
          <a:prstGeom prst="triangle">
            <a:avLst>
              <a:gd name="adj" fmla="val 50000"/>
            </a:avLst>
          </a:prstGeom>
          <a:solidFill>
            <a:srgbClr val="d27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294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2628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8000" y="49528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69440" y="312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43600" y="45720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3124080"/>
            <a:ext cx="22860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162560" y="3124080"/>
            <a:ext cx="7596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4680" y="6135840"/>
            <a:ext cx="78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Ответ: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ересекаются по прямой, содержащей точку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10-08T02:30:4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